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F16D-B13D-42D9-ACEB-384276B81E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9BE3-CC7A-4B3D-B832-1C858B5AA82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93D0-FFEB-41E2-85FB-FF548CEDF2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AE2B-618D-4159-8FF7-BC2A385710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A8B9-4676-4B58-8DA6-FC5DC7C5CE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DABB-5B24-447E-B678-995FA66413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1D5-A389-42ED-BF7C-AE9C6831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DC2-1C43-4441-B287-00ECAFEF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914-43ED-4EDD-A260-0BA4D312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F7F-2CB5-4ADB-B31A-0C6BC5E3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0F2-4FDD-4B1B-AFA0-5E06F884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22E-C9EC-46B6-B8F5-C7C6515C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41C-F3E8-46DB-9F51-EE2E6549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34E-CD51-43D5-B3E3-2F1ABBF1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D784-0EAF-4459-BE8B-ABA6FFFB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474-A0F3-4E30-9984-A520F6AA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BA0-85CD-4E51-9D7A-9EED9B39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E79C-990A-42D7-A8DB-1C5CF4A4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09A5-A7A7-4466-8754-1B8BFFD89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oneTexte 1"/>
          <p:cNvSpPr/>
          <p:nvPr/>
        </p:nvSpPr>
        <p:spPr>
          <a:xfrm>
            <a:off x="480600" y="2022480"/>
            <a:ext cx="230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Bilan des analy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 8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H= 21 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TAC= 6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212760" y="3767040"/>
            <a:ext cx="29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n utilise l’échelle de Taylor pour déterminer le pH idéal de l’eau de pis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ableau_Ph-b"/>
          <p:cNvPicPr/>
          <p:nvPr/>
        </p:nvPicPr>
        <p:blipFill>
          <a:blip r:embed="rId1"/>
          <a:stretch/>
        </p:blipFill>
        <p:spPr>
          <a:xfrm>
            <a:off x="3564000" y="1793880"/>
            <a:ext cx="4064040" cy="4562640"/>
          </a:xfrm>
          <a:prstGeom prst="rect">
            <a:avLst/>
          </a:prstGeom>
          <a:ln w="0">
            <a:noFill/>
          </a:ln>
        </p:spPr>
      </p:pic>
      <p:sp>
        <p:nvSpPr>
          <p:cNvPr id="99" name="Connecteur droit 4"/>
          <p:cNvSpPr/>
          <p:nvPr/>
        </p:nvSpPr>
        <p:spPr>
          <a:xfrm>
            <a:off x="4427640" y="3645000"/>
            <a:ext cx="252072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8"/>
          <p:cNvSpPr/>
          <p:nvPr/>
        </p:nvSpPr>
        <p:spPr>
          <a:xfrm>
            <a:off x="5364000" y="4075200"/>
            <a:ext cx="655920" cy="36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212760" y="5200560"/>
            <a:ext cx="32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idéal est de 7,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pH actuel est trop élev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250920" y="94968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3- </a:t>
            </a: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Présentez le bilan des analyses effectuées (pH, 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Arial"/>
              </a:rPr>
              <a:t>Vous vous appuierez sur ces valeurs ainsi que sur le TAC afin d’indiquer le traitement quantitatif à conduire pour rendre l’eau adaptée à la baign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 </a:t>
            </a:r>
            <a:br>
              <a:rPr sz="2500"/>
            </a:b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oneTexte 3"/>
          <p:cNvSpPr/>
          <p:nvPr/>
        </p:nvSpPr>
        <p:spPr>
          <a:xfrm>
            <a:off x="693720" y="1836720"/>
            <a:ext cx="72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e document 4 nous renseigne sur le traitement quantitatif à cond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042920" y="2654280"/>
          <a:ext cx="6697800" cy="2405160"/>
        </p:xfrm>
        <a:graphic>
          <a:graphicData uri="http://schemas.openxmlformats.org/drawingml/2006/table">
            <a:tbl>
              <a:tblPr/>
              <a:tblGrid>
                <a:gridCol w="1011240"/>
                <a:gridCol w="517680"/>
                <a:gridCol w="515880"/>
                <a:gridCol w="517320"/>
                <a:gridCol w="516240"/>
                <a:gridCol w="517320"/>
                <a:gridCol w="517680"/>
                <a:gridCol w="515880"/>
                <a:gridCol w="517680"/>
                <a:gridCol w="515880"/>
                <a:gridCol w="517320"/>
                <a:gridCol w="517680"/>
              </a:tblGrid>
              <a:tr h="2109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souha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pH idéa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 mesuré (Votre pH actu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0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09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Ellipse 7"/>
          <p:cNvSpPr/>
          <p:nvPr/>
        </p:nvSpPr>
        <p:spPr>
          <a:xfrm>
            <a:off x="2124000" y="3284640"/>
            <a:ext cx="432000" cy="21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59960" y="2314440"/>
            <a:ext cx="76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Quantité de « pH moins » à verser dans la piscine (en g.m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, grammes par mètre cube d’eau)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>
            <a:off x="567000" y="5153040"/>
            <a:ext cx="68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Il va falloir ajouter 9,0 g de « pH moins », par mètre cube d’eau de pisc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12"/>
          <p:cNvSpPr/>
          <p:nvPr/>
        </p:nvSpPr>
        <p:spPr>
          <a:xfrm>
            <a:off x="1101240" y="550548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de la piscine: (largeur à mesurer) 10x25X2,5 = 625 m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3"/>
          <p:cNvSpPr/>
          <p:nvPr/>
        </p:nvSpPr>
        <p:spPr>
          <a:xfrm>
            <a:off x="2563560" y="5952960"/>
            <a:ext cx="3658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it: 625x9 = 5 625 g de « pH moin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15"/>
          <p:cNvCxnSpPr/>
          <p:nvPr/>
        </p:nvCxnSpPr>
        <p:spPr>
          <a:xfrm>
            <a:off x="817200" y="3357360"/>
            <a:ext cx="51516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4" name="Connecteur droit avec flèche 20"/>
          <p:cNvCxnSpPr/>
          <p:nvPr/>
        </p:nvCxnSpPr>
        <p:spPr>
          <a:xfrm>
            <a:off x="2339640" y="2622240"/>
            <a:ext cx="1080" cy="354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250920" y="177120"/>
            <a:ext cx="85690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Etape 3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325368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"/>
          <p:cNvSpPr/>
          <p:nvPr/>
        </p:nvSpPr>
        <p:spPr>
          <a:xfrm>
            <a:off x="1332000" y="2708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quantité de « pH moins » trouvée peut paraître impor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pratique elle ne serait pas mise brutalement mais par ajout successifs sur plusieurs jours avec un contrôle journalier du p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En particulier pour ne pas dérégler le TAC comme indiqué dans le document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 3" descr=""/>
          <p:cNvPicPr/>
          <p:nvPr/>
        </p:nvPicPr>
        <p:blipFill>
          <a:blip r:embed="rId1"/>
          <a:stretch/>
        </p:blipFill>
        <p:spPr>
          <a:xfrm>
            <a:off x="1866960" y="1560600"/>
            <a:ext cx="551340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Thème 1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: Eau et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11280" y="1341360"/>
          <a:ext cx="8208720" cy="1656000"/>
        </p:xfrm>
        <a:graphic>
          <a:graphicData uri="http://schemas.openxmlformats.org/drawingml/2006/table">
            <a:tbl>
              <a:tblPr/>
              <a:tblGrid>
                <a:gridCol w="2711520"/>
                <a:gridCol w="5497200"/>
              </a:tblGrid>
              <a:tr h="393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e d’é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s-cl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u et res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production d’eau potable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ement des eaux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ressources minérales et organiques des océ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hydrates de 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360" y="3508200"/>
            <a:ext cx="79200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17375e"/>
                </a:solidFill>
                <a:uFillTx/>
                <a:latin typeface="Arial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Agir :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Contrôle de la qualité par dosag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osage par titrage direct; repérage de l’équivalence par utilisation d’un indicateur de fin de ré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7375e"/>
                </a:solidFill>
                <a:latin typeface="Arial"/>
              </a:rPr>
              <a:t>Pratiquer une démarche expérimentale pour déterminer la concentration d’une espèce par titrage par la visualisation d’un changement de couleur dans le domaine du contrôle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8280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258920" y="858960"/>
            <a:ext cx="6626160" cy="7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Problémat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L’eau de la piscine est-elle adaptée à la baignade? Sinon, quel traitement quantitatif faut-il effectuer pour la rendre accessib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620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Matériel nécessaire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H-mètre étalonné et sa notice d’utilis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n ruban de papier p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burettes graduées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verre à p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4 béchers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erlenmeyer de 100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de 25 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éprouvette graduée 50 ou une pipette jaugée de 50 mL et sa propipet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agitateur magnétique et son barreau aim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 pissette d’eau distillé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apier filt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unettes de protection et g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Produits à disposition 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d’EDTA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mol.L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125 mL d’eau de piscine à te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60 mL de solution tampon 10 ( 25 mL sont nécessaire pour 1 dosag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olution de Noir Eriochrome T (N.E.T) en flacon compte-gout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468360" y="-27000"/>
            <a:ext cx="8280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Entretien d’une eau de pis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124080" y="6448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41264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oposer une méthode pour mesurer le pH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élève propose de mesurer le pH de l’eau de piscine à l’aide du pH-mètre dans un soucis de préci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- Proposer une méthode pour déterminer le titre hydrotimétrique (TH) de l’eau de piscine que l’on vous a confié. Faire valider par l’enseignant avant la mise en œuv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parer le titrage en choisissant une prise d’essai de 50 mL, en ajoutant 5 gouttes de solution de NET et 25 mL de solution tamp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Réaliser le titrage, relever le volume équivalent et déterminer le 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1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Mesure du pH de l’eau de pis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Espace réservé du contenu 4" descr=""/>
          <p:cNvPicPr/>
          <p:nvPr/>
        </p:nvPicPr>
        <p:blipFill>
          <a:blip r:embed="rId1"/>
          <a:srcRect l="24497" t="16554" r="0" b="0"/>
          <a:stretch/>
        </p:blipFill>
        <p:spPr>
          <a:xfrm>
            <a:off x="1619280" y="1116000"/>
            <a:ext cx="6041880" cy="5008680"/>
          </a:xfrm>
          <a:prstGeom prst="rect">
            <a:avLst/>
          </a:prstGeom>
          <a:ln w="0">
            <a:noFill/>
          </a:ln>
        </p:spPr>
      </p:pic>
      <p:cxnSp>
        <p:nvCxnSpPr>
          <p:cNvPr id="69" name="Connecteur droit avec flèche 6"/>
          <p:cNvCxnSpPr>
            <a:endCxn id="68" idx="3"/>
          </p:cNvCxnSpPr>
          <p:nvPr/>
        </p:nvCxnSpPr>
        <p:spPr>
          <a:xfrm>
            <a:off x="6443640" y="3619080"/>
            <a:ext cx="121824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lg" type="triangle" w="lg"/>
          </a:ln>
        </p:spPr>
      </p:cxnSp>
      <p:sp>
        <p:nvSpPr>
          <p:cNvPr id="70" name="ZoneTexte 13"/>
          <p:cNvSpPr/>
          <p:nvPr/>
        </p:nvSpPr>
        <p:spPr>
          <a:xfrm>
            <a:off x="7767360" y="325440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H=8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age 10" descr=""/>
          <p:cNvPicPr/>
          <p:nvPr/>
        </p:nvPicPr>
        <p:blipFill>
          <a:blip r:embed="rId1"/>
          <a:srcRect l="28679" t="39923" r="50001" b="10800"/>
          <a:stretch/>
        </p:blipFill>
        <p:spPr>
          <a:xfrm>
            <a:off x="1116000" y="1192320"/>
            <a:ext cx="3008160" cy="3981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1"/>
          <p:cNvSpPr/>
          <p:nvPr/>
        </p:nvSpPr>
        <p:spPr>
          <a:xfrm>
            <a:off x="4485240" y="119232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erlenmeyer de 1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se d’essai eau de piscine 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 gouttes de solution de N.E.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lution tampon 2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gitateur magné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12"/>
          <p:cNvSpPr/>
          <p:nvPr/>
        </p:nvSpPr>
        <p:spPr>
          <a:xfrm>
            <a:off x="4556160" y="3236760"/>
            <a:ext cx="35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ans la burette grad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- ED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1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réparation du dosage par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 2" descr=""/>
          <p:cNvPicPr/>
          <p:nvPr/>
        </p:nvPicPr>
        <p:blipFill>
          <a:blip r:embed="rId1"/>
          <a:srcRect l="28735" t="0" r="29526" b="0"/>
          <a:stretch/>
        </p:blipFill>
        <p:spPr>
          <a:xfrm>
            <a:off x="755640" y="958680"/>
            <a:ext cx="3816360" cy="5143680"/>
          </a:xfrm>
          <a:prstGeom prst="rect">
            <a:avLst/>
          </a:prstGeom>
          <a:ln w="0">
            <a:noFill/>
          </a:ln>
        </p:spPr>
      </p:pic>
      <p:pic>
        <p:nvPicPr>
          <p:cNvPr id="83" name="Image 4" descr=""/>
          <p:cNvPicPr/>
          <p:nvPr/>
        </p:nvPicPr>
        <p:blipFill>
          <a:blip r:embed="rId2"/>
          <a:stretch/>
        </p:blipFill>
        <p:spPr>
          <a:xfrm>
            <a:off x="5508720" y="1008000"/>
            <a:ext cx="28638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ape 2.2 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éalisation et exploitation du titr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2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336400" y="7171920"/>
            <a:ext cx="44708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c</a:t>
            </a:r>
            <a:r>
              <a:rPr b="0" lang="fr-FR" sz="11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inconnue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 =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Calibri"/>
              </a:rPr>
              <a:t>La concentration molaire de l’eau d’aquarium est donc de 24 µmol.L</a:t>
            </a:r>
            <a:r>
              <a:rPr b="0" lang="fr-FR" sz="11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3" descr=""/>
          <p:cNvPicPr/>
          <p:nvPr/>
        </p:nvPicPr>
        <p:blipFill>
          <a:blip r:embed="rId1"/>
          <a:stretch/>
        </p:blipFill>
        <p:spPr>
          <a:xfrm>
            <a:off x="474840" y="1198440"/>
            <a:ext cx="265896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5"/>
          <p:cNvSpPr/>
          <p:nvPr/>
        </p:nvSpPr>
        <p:spPr>
          <a:xfrm>
            <a:off x="3729600" y="1484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Fin du titrage: couleur bleu « pur 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3735360" y="2057400"/>
            <a:ext cx="474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Volume versé à l’équivalence: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q= 10,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3301920" y="2705040"/>
            <a:ext cx="5518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oitation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 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) x V (prise d’essai) = C(EDTA) x V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Après développement et application numérique on trouv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[Ca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+ [Mg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] = 0,0021 mol.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Ce qui correspond à un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 de 21°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d.duthoit</dc:creator>
  <dc:description/>
  <dc:language>en-US</dc:language>
  <cp:lastModifiedBy>damien duthoit</cp:lastModifiedBy>
  <dcterms:modified xsi:type="dcterms:W3CDTF">2018-04-10T13:13:15Z</dcterms:modified>
  <cp:revision>72</cp:revision>
  <dc:subject/>
  <dc:title>Diapositive 1</dc:title>
</cp:coreProperties>
</file>